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A2DEE-5854-4A90-A603-4E275D498D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F9FAF-6073-4537-A86F-4028991F1E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9073B-38CC-44E6-95EB-BE3712A1B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77939-F331-49BD-ADA2-2DCE0EC29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18A3F-C3E3-4DF0-A3EB-7D7A3B860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82F6A-85BE-4D6D-9A94-812FBE492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16460-C056-4EA0-9EDF-5F02B8641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EBC66-AD0A-4963-9BCC-3DD0F3C5A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5BBAC-7E66-4A71-8351-8E7A61EA7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EA55B-3F1B-4140-8899-526C4A460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2A8EB-4FD3-44BF-8A0E-432BB6B72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E09E5-65CD-4F4B-B590-0D1FB76F5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B3D80-2F3B-4F4B-AAB0-2108F06C9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D6F74-570F-4D3E-A37A-DCE9D5A08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F7328-10D1-436E-8805-6A27E9E45C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762120" y="279360"/>
            <a:ext cx="7619760" cy="629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1T00:46:32Z</dcterms:created>
  <dc:creator>Kathy/Brian Whepley</dc:creator>
  <dc:description/>
  <dc:language>en-US</dc:language>
  <cp:lastModifiedBy>Kelly Frederick</cp:lastModifiedBy>
  <dcterms:modified xsi:type="dcterms:W3CDTF">2013-02-08T17:18:44Z</dcterms:modified>
  <cp:revision>2</cp:revision>
  <dc:subject/>
  <dc:title>PowerPoint Presentation</dc:title>
</cp:coreProperties>
</file>